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5th%20Grader%20Short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E649-05BC-46B4-B5EC-186DA3E52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3582-E52E-4D3F-BCC5-CD7FBA2A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0310-13E2-440F-90C9-F3391C90F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4AE3-8E21-4DAB-9498-3619D680C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0A03-0603-4FF8-8D95-42B4C7269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0C34-F8AE-4AE4-B667-E1C91083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62F4-04C2-4071-B79D-2CE9AA02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7EC3-FC81-4F05-AECD-92941DE5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DE4A-3F03-4922-90F0-89FFB9FC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F56C-24F8-4F57-8CC4-746C18C2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FA83-A929-4779-9A88-18442862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0A09-DE48-4509-B0C4-0FC2A463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34E1-A3A4-4721-86D1-707694BD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AC84-519E-4776-8101-CCF30C86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5077-4DC7-4A19-83D5-65103EB1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BA79-A0F7-4455-B7AD-33F399175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405A-260D-42CB-94F1-6722275CC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448E-21AC-41C9-9051-323AC536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F06A-912D-4AEB-848C-0FA1EC7F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926B-8334-46C4-B014-02478EEC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3438-D7DB-4E3B-8272-07EA97E4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AF59-2106-404C-B475-284912D1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9AAB-F8F6-4D29-9EA9-D32FDBDD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CB46-E955-4037-8156-292C2D3A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66000"/>
          </a:bodyPr>
          <a:p>
            <a:pPr marL="226080" indent="-226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90320" indent="-1886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754200" indent="-15084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055880" indent="-15084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357560" indent="-15084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DB0D-9F03-4547-99FB-076409706BC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2DD1-AB2D-404E-A61C-4FF260DD12A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1.xml"/><Relationship Id="rId3" Type="http://schemas.openxmlformats.org/officeDocument/2006/relationships/slide" Target="slide7.xml"/><Relationship Id="rId4" Type="http://schemas.openxmlformats.org/officeDocument/2006/relationships/slide" Target="slide3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re You Smart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an a 5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Question 2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illing Mrs. Jo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Question 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is in the group that comes to save Pip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Question 1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rbert, Startop, and Trabb’s S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w did they know that Pip was at the Sluice hous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Question 2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y found a mysterious note addressed to Pip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Question 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ere does Pip pick Magwitch up on the riv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Question 1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ara’s Hous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Question 2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Orlicks reason for seeking revenge on Pip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Question 2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 claimed that Pip came between him and his lov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dare you com between me and a young woman I liked?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Orlic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Question 1 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w badly did Orlick hurt Pip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500"/>
            </a:gs>
            <a:gs pos="50000">
              <a:srgbClr val="408000"/>
            </a:gs>
            <a:gs pos="100000">
              <a:srgbClr val="020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e You Smarter Than 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76320" y="228600"/>
            <a:ext cx="1600200" cy="457200"/>
          </a:xfrm>
          <a:prstGeom prst="rect">
            <a:avLst/>
          </a:prstGeom>
          <a:solidFill>
            <a:srgbClr val="000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1,0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16765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5th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16765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th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264780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4th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264780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4th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361944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rd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361944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rd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459108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nd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459108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2nd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55627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st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55627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1st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5240" y="80028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13874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3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197316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17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25606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1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31478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73392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43210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1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490680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549432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14" action="ppaction://hlinksldjump"/>
          </p:cNvPr>
          <p:cNvSpPr/>
          <p:nvPr/>
        </p:nvSpPr>
        <p:spPr>
          <a:xfrm>
            <a:off x="152280" y="608184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Question 1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 hurt his arm, but he had no major injuri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>
            <a:hlinkClick r:id="rId3" action="ppaction://hlinksldjump"/>
          </p:cNvPr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month was it when Pip, Herbert, Magwitch, and Startop are on the riv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Question 2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rch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t was one of those march days when the sun shines hot and the wind blows cold- when it is summer in the light and winter in the shade.”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">
            <a:hlinkClick r:id="rId2" action="ppaction://hlinksldjump"/>
          </p:cNvPr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illion Dollar Quest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code the hidden message…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retg teaixapcots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yb ahelcrs kesnic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Great Expectation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y Charles Dicken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s for Playing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Question 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attacks Pip at the Sluice Hous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Question 1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olge Orlick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does magwitch attack from the rowboa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Question 2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peys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Question 1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promise that Pip makes to Magwitch before he is taken away to jail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Question 1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 promises to stand by him, he says “I will never stir from your side, when I am suffered to be near you. Please God, I will be as true to you as you have been to me!”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does Orlick confess to doing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20:28:24Z</dcterms:created>
  <dc:creator>Gary Bodenschatz</dc:creator>
  <dc:description/>
  <dc:language>en-US</dc:language>
  <cp:lastModifiedBy>lynn</cp:lastModifiedBy>
  <dcterms:modified xsi:type="dcterms:W3CDTF">2009-03-15T17:08:26Z</dcterms:modified>
  <cp:revision>29</cp:revision>
  <dc:subject/>
  <dc:title>Are You Smarter  Than a 5th Grader?</dc:title>
</cp:coreProperties>
</file>